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19A-EB6D-40F0-B7F4-662DAD35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D9F-7C68-4337-831D-7F67D958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44B-254B-4609-A81E-37DD446D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1F5-D3B2-45AB-AFA2-2091FCA3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0B0-9617-477A-81E9-DC5C56A1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1E5-4567-428E-A26A-1D398C6A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75A-7166-4563-8F75-66B1EDC8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169-E272-41EE-9BF9-6FB86451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916-D87F-423E-B97B-7F09A1A0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EFF-B341-4F97-9FAB-B354C162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54C4-9D63-43CF-BFCD-E5809B76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A82-4290-49BB-A413-4F32DE07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FF5D-096C-43D1-A7B0-1AEF67874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52600" y="50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66cc"/>
                </a:solidFill>
                <a:latin typeface="Arial"/>
              </a:rPr>
              <a:t>DB’s cream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6200" y="5298840"/>
            <a:ext cx="70232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It’s a cream that will make your dr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03680" y="2517840"/>
            <a:ext cx="27525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